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B478-28DF-4B1E-A413-2AC9F0C2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3F2-FA39-465A-8DFC-7360C35D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FE4-C5D0-44C6-88E7-0E9D44D0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FDA8-7BA1-416F-B8A0-F5D6B78D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E950-B2F9-40AA-B110-AAFF06AA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7F65-180C-4578-BD84-0B27D1A1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FF62-8D69-4FFA-8578-B8067A54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B8F5-00C4-41B4-925F-17C607F1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F4CB-373E-48B2-88B6-DBD24477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8EF0-496C-4E4A-A798-A7FB59BC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B520-C9BA-40C5-811C-8D0AB2AD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2EDA-4EF1-40B8-926F-E8B09A9B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F39C-4500-4EA6-9D0B-C70F504A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E93E-F209-467E-8F8F-F332C35C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A744-CFF7-432F-9C70-62E867A3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CE84-9114-4285-9C42-17997548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AEE1-87CD-4FA8-9F4B-A8915BC0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B65-6E8C-4407-9F8D-D01E3978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BDF9-4EAE-4409-9B99-55B65ABE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7D4-211D-44D9-9AC1-F56CD684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1C86-CC58-442D-9BEF-6F9B53FA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521-5B69-4C5C-AC72-872A21E8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3DDF-D4C9-4BFB-8384-3CB7C4C8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46A8-8938-4380-8776-EAAFF90B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BBEA-9AED-4D19-9B39-781D3517D271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5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1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66ff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6666ff"/>
              </a:solidFill>
              <a:latin typeface="Arial Black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8" name="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/>
              <a:ahLst/>
              <a:rect l="l" t="t" r="r" b="b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162C-7EFB-461D-90FE-94E565C1753B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1.dcccd.edu/cat0102/courseDescriptions/detail.cfm?course=RTVB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ff"/>
                </a:solidFill>
                <a:latin typeface="Arial Black"/>
              </a:rPr>
              <a:t>Achllem technology college</a:t>
            </a:r>
            <a:endParaRPr b="0" lang="en-US" sz="6000" spc="-1" strike="noStrike">
              <a:solidFill>
                <a:srgbClr val="6666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876560" y="4733640"/>
            <a:ext cx="4259160" cy="377640"/>
          </a:xfrm>
          <a:prstGeom prst="rect">
            <a:avLst/>
          </a:prstGeom>
          <a:solidFill>
            <a:srgbClr val="6666ff"/>
          </a:solidFill>
          <a:ln w="12600">
            <a:solidFill>
              <a:srgbClr val="6666ff"/>
            </a:solidFill>
            <a:miter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 Sasha Willi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Offers video produc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Video room students learn audio and video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1904760" cy="2577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 rot="1622400">
            <a:off x="4800240" y="3276720"/>
            <a:ext cx="285768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afé @ lunch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tudents after a long day of work eat lunch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 rot="20396400">
            <a:off x="609480" y="2742840"/>
            <a:ext cx="3276720" cy="2590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 rot="1065600">
            <a:off x="5562360" y="259056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429000" y="4819680"/>
            <a:ext cx="285768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Lifestyle on the campus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tudents are allowed enjoyable frenzies @school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0" y="4038480"/>
            <a:ext cx="47624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Degree plans of technology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tudents have key access for video technology degree plans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ff"/>
                </a:solidFill>
                <a:uFillTx/>
                <a:latin typeface="Arial"/>
                <a:hlinkClick r:id="rId1"/>
              </a:rPr>
              <a:t>RTVB 1305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 is one of the plans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rot="20497200">
            <a:off x="1142640" y="3962160"/>
            <a:ext cx="2381400" cy="1971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 rot="2217000">
            <a:off x="5638680" y="4191120"/>
            <a:ext cx="2857680" cy="203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6:09:27Z</dcterms:created>
  <dc:creator>769579</dc:creator>
  <dc:description/>
  <dc:language>en-US</dc:language>
  <cp:lastModifiedBy>769579</cp:lastModifiedBy>
  <dcterms:modified xsi:type="dcterms:W3CDTF">2009-02-24T16:17:54Z</dcterms:modified>
  <cp:revision>1</cp:revision>
  <dc:subject/>
  <dc:title>Achllem technology college</dc:title>
</cp:coreProperties>
</file>